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86F68-9975-4AA7-85D4-29507A814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DAD25-BA73-45CC-9451-92F2811E4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5D47CD-597C-4CF9-B200-14851A8FF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7D178-5398-42A5-870B-CD531CBFC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EC724-4075-46E3-BF89-4360DCEF0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CDAD7-C9D6-4AAF-BB16-E87F0CC56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AB6F9-0698-40E1-9F3B-F11AB34A1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D6495-CB85-44ED-A004-22D54C0EF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40803-DAED-42CE-B812-C716F37AD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BFB1A-3F15-4E45-849A-54ED2854C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CC135-85BE-4D01-82F8-368A87BCE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746AC-8124-43CE-B8B0-61775BD43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897CE-B098-4908-BFA5-F6D9001A9F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3399"/>
            </a:gs>
          </a:gsLst>
          <a:lin ang="5400000"/>
        </a:gradFill>
      </p:bgPr>
    </p:bg>
    <p:spTree>
      <p:nvGrpSpPr>
        <p:cNvPr id="1" name=""/>
        <p:cNvGrpSpPr/>
        <p:nvPr/>
      </p:nvGrpSpPr>
      <p:grpSpPr>
        <a:xfrm>
          <a:off x="0" y="0"/>
          <a:ext cx="0" cy="0"/>
          <a:chOff x="0" y="0"/>
          <a:chExt cx="0" cy="0"/>
        </a:xfrm>
      </p:grpSpPr>
      <p:sp>
        <p:nvSpPr>
          <p:cNvPr id="41" name=""/>
          <p:cNvSpPr txBox="1"/>
          <p:nvPr/>
        </p:nvSpPr>
        <p:spPr>
          <a:xfrm>
            <a:off x="3276720" y="836640"/>
            <a:ext cx="25207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lato</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2" name=""/>
          <p:cNvSpPr txBox="1"/>
          <p:nvPr/>
        </p:nvSpPr>
        <p:spPr>
          <a:xfrm>
            <a:off x="2195640" y="3357720"/>
            <a:ext cx="4895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y Spencer Purnell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3" name=""/>
          <p:cNvSpPr txBox="1"/>
          <p:nvPr/>
        </p:nvSpPr>
        <p:spPr>
          <a:xfrm>
            <a:off x="1763640" y="2421000"/>
            <a:ext cx="561672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427B.C.E-347B.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 name=""/>
          <p:cNvSpPr txBox="1"/>
          <p:nvPr/>
        </p:nvSpPr>
        <p:spPr>
          <a:xfrm>
            <a:off x="684360" y="4653000"/>
            <a:ext cx="785808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a:t>
            </a:r>
            <a:r>
              <a:rPr b="0" lang="en-US" sz="1800" spc="1" strike="noStrike">
                <a:ln w="9360">
                  <a:solidFill>
                    <a:srgbClr val="000000"/>
                  </a:solidFill>
                  <a:miter/>
                </a:ln>
                <a:solidFill>
                  <a:srgbClr val="000000"/>
                </a:solidFill>
                <a:latin typeface="Times New Roman"/>
              </a:rPr>
              <a:t>Time is a moving image of eternity”- Plato</a:t>
            </a:r>
            <a:endParaRPr b="0" lang="en-US" sz="18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Ideas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 of his ideas about reality is unenviable to those who use their senses, and that physical reality is just shadows of the real truth there ideal or perfect forms exist only to the extent that they instantiate the perfect versions of themselv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 of Plato’s theory’s reject the ideas the knowledge is found from experience, although he believes it is probable, it is not certain. These beliefs start to demise Plato towards the common individual and make it hard for people to trust hi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lato believed that reality was a step down from knowledge and reality then that of art is two steps down of reality.</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so meant that the artist was two steps down from knowledge and that they lack genuine knowledge of what they are doing.</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9" name="Picture 2" descr="C:\Users\Phlyx\Documents\School\Grade 11\Social 20-1\Plato\Pics\Sanzio_01_Plato_Aristotle[1].jpg"/>
          <p:cNvPicPr/>
          <p:nvPr/>
        </p:nvPicPr>
        <p:blipFill>
          <a:blip r:embed="rId2"/>
          <a:stretch/>
        </p:blipFill>
        <p:spPr>
          <a:xfrm>
            <a:off x="6300720" y="3651120"/>
            <a:ext cx="2451240" cy="320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13500000"/>
        </a:gradFill>
      </p:bgPr>
    </p:bg>
    <p:spTree>
      <p:nvGrpSpPr>
        <p:cNvPr id="1" name=""/>
        <p:cNvGrpSpPr/>
        <p:nvPr/>
      </p:nvGrpSpPr>
      <p:grpSpPr>
        <a:xfrm>
          <a:off x="0" y="0"/>
          <a:ext cx="0" cy="0"/>
          <a:chOff x="0" y="0"/>
          <a:chExt cx="0" cy="0"/>
        </a:xfrm>
      </p:grpSpPr>
      <p:pic>
        <p:nvPicPr>
          <p:cNvPr id="70" name="Picture 1" descr="C:\Users\Phlyx\Documents\School\Grade 11\Social 20-1\Plato\Pics\plato_bust[1].jpg"/>
          <p:cNvPicPr/>
          <p:nvPr/>
        </p:nvPicPr>
        <p:blipFill>
          <a:blip r:embed="rId1"/>
          <a:stretch/>
        </p:blipFill>
        <p:spPr>
          <a:xfrm>
            <a:off x="0" y="2752560"/>
            <a:ext cx="3081240" cy="410544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o’s Ideas Live On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age of sixty-one young man at the age of eighteen arrived at Plato’s Academy by the name of Aristot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3</a:t>
            </a:r>
            <a:r>
              <a:rPr b="0" lang="en-US" sz="2400" spc="-1" strike="noStrike" baseline="30000">
                <a:solidFill>
                  <a:srgbClr val="000000"/>
                </a:solidFill>
                <a:latin typeface="Arial"/>
              </a:rPr>
              <a:t>rd</a:t>
            </a:r>
            <a:r>
              <a:rPr b="0" lang="en-US" sz="2400" spc="-1" strike="noStrike">
                <a:solidFill>
                  <a:srgbClr val="000000"/>
                </a:solidFill>
                <a:latin typeface="Arial"/>
              </a:rPr>
              <a:t> century the development of the Theory of Platonism from the philosopher Plotinus was inspired from Plato as we can interpret from the word (Plato-ism)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o also had great impact on Jewish thought though the work of the 1</a:t>
            </a:r>
            <a:r>
              <a:rPr b="0" lang="en-US" sz="2400" spc="-1" strike="noStrike" baseline="30000">
                <a:solidFill>
                  <a:srgbClr val="000000"/>
                </a:solidFill>
                <a:latin typeface="Arial"/>
              </a:rPr>
              <a:t>st</a:t>
            </a:r>
            <a:r>
              <a:rPr b="0" lang="en-US" sz="2400" spc="-1" strike="noStrike">
                <a:solidFill>
                  <a:srgbClr val="000000"/>
                </a:solidFill>
                <a:latin typeface="Arial"/>
              </a:rPr>
              <a:t> century philosopher Philo Judaeus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4" descr="http://wwp.greenwichmeantime.com/time-zone/usa/new-york/new-york-city/images/new-york-city.jpg"/>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o’s Ideas Live On </a:t>
            </a:r>
            <a:endParaRPr b="0" lang="en-US" sz="4400" spc="-1" strike="noStrike">
              <a:solidFill>
                <a:srgbClr val="000000"/>
              </a:solidFill>
              <a:latin typeface="Arial"/>
            </a:endParaRPr>
          </a:p>
        </p:txBody>
      </p:sp>
      <p:sp>
        <p:nvSpPr>
          <p:cNvPr id="75"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Renaissance, the primary focus of Plato’s influence was in the Italian city of Florence, where under the rule of Marsilio Ficino, Florentine Academy study Plato’s Idea’s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ven today twenty-first century thinkers such as Alfred North Whitehead admirer Plato. He once said “Philosophies history is just a series of footnotes to Plato.”</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elief of equality of men and women relate to today's beliefs of freedom and people’s right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o the Grea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to’s influences throughout the history of philosophy has been monumental!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to’s influences extended long past his own life and, indeed his ideas have died.</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8" name="Picture 2" descr="C:\Users\Phlyx\Documents\School\Grade 11\Social 20-1\Plato\Pics\Sanzio_01_Plato_Aristotle[1].jpg"/>
          <p:cNvPicPr/>
          <p:nvPr/>
        </p:nvPicPr>
        <p:blipFill>
          <a:blip r:embed="rId1"/>
          <a:stretch/>
        </p:blipFill>
        <p:spPr>
          <a:xfrm>
            <a:off x="3276720" y="3500280"/>
            <a:ext cx="2450880" cy="320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10800000"/>
        </a:gradFill>
      </p:bgPr>
    </p:bg>
    <p:spTree>
      <p:nvGrpSpPr>
        <p:cNvPr id="1" name=""/>
        <p:cNvGrpSpPr/>
        <p:nvPr/>
      </p:nvGrpSpPr>
      <p:grpSpPr>
        <a:xfrm>
          <a:off x="0" y="0"/>
          <a:ext cx="0" cy="0"/>
          <a:chOff x="0" y="0"/>
          <a:chExt cx="0" cy="0"/>
        </a:xfrm>
      </p:grpSpPr>
      <p:pic>
        <p:nvPicPr>
          <p:cNvPr id="45" name="Picture 2" descr="C:\Users\Phlyx\Pictures\School\Plato\Plato_1_lg[1].gif"/>
          <p:cNvPicPr/>
          <p:nvPr/>
        </p:nvPicPr>
        <p:blipFill>
          <a:blip r:embed="rId1"/>
          <a:stretch/>
        </p:blipFill>
        <p:spPr>
          <a:xfrm>
            <a:off x="0" y="4273560"/>
            <a:ext cx="2714760" cy="2584440"/>
          </a:xfrm>
          <a:prstGeom prst="rect">
            <a:avLst/>
          </a:prstGeom>
          <a:ln w="0">
            <a:noFill/>
          </a:ln>
        </p:spPr>
      </p:pic>
      <p:sp>
        <p:nvSpPr>
          <p:cNvPr id="46" name="PlaceHolder 1"/>
          <p:cNvSpPr>
            <a:spLocks noGrp="1"/>
          </p:cNvSpPr>
          <p:nvPr>
            <p:ph/>
          </p:nvPr>
        </p:nvSpPr>
        <p:spPr>
          <a:xfrm>
            <a:off x="324000" y="155736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inite place and time of Plato’s birth are unknow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believed that he was born in Athens around (427 B.C.E) and that he was born into an aristocratic and influential family his fathers name was Ariston and his mothers Perictions .(Death: around 347B.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is a descendent from ancient Athenian kings and was related to Critias a politicia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real name is actually Aristocles but was nicknamed Plato for his wrestling abiliti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o received a great education as a child learning topics such as gymnastics, grammar, music and philosophy along with some other subjec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Rectangle 3" descr=""/>
          <p:cNvPicPr/>
          <p:nvPr/>
        </p:nvPicPr>
        <p:blipFill>
          <a:blip r:embed="rId2"/>
          <a:stretch/>
        </p:blipFill>
        <p:spPr>
          <a:xfrm>
            <a:off x="2098800" y="339840"/>
            <a:ext cx="494496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o is one of the major Philosophers in history and he studied subjects such a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ysic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y of Form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stemolog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o expressed most of his ideas in dialog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o Believed that moral philosophy was greater than natural philosophy a.k.a science </a:t>
            </a:r>
            <a:endParaRPr b="0" lang="en-US" sz="2000" spc="-1" strike="noStrike">
              <a:solidFill>
                <a:srgbClr val="000000"/>
              </a:solidFill>
              <a:latin typeface="Arial"/>
            </a:endParaRPr>
          </a:p>
        </p:txBody>
      </p:sp>
      <p:pic>
        <p:nvPicPr>
          <p:cNvPr id="50" name="" descr=""/>
          <p:cNvPicPr/>
          <p:nvPr/>
        </p:nvPicPr>
        <p:blipFill>
          <a:blip r:embed="rId1"/>
          <a:stretch/>
        </p:blipFill>
        <p:spPr>
          <a:xfrm>
            <a:off x="6516720" y="4365720"/>
            <a:ext cx="2332080" cy="22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9640" y="404280"/>
            <a:ext cx="8229600" cy="45262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o was born in 427B.C.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age of twenty Plato became a pupil of Socra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o joined the military in 409 to 404 BC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403 there was a lot of democracy and Plato attempted to enter politic but soon he gives up political ambitions because of personal reason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399 Socrates was executed and Plato would no longer have anything to do with politics in Athen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o left Athens and traveled to Egypt, Sicily and Italy learning of the water clock in Greece and Pythagoras mathematics in Ital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again Plato entered in the military, date not found, he was mentioned for his bravery.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o created Academos or academy in 38-3897BC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his journeys he decided to devote the rest of his life to philosoph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went to Syracuse in 367 BCE to tutor Dionysius II to prevent  Carthage from Invading Sicily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th 347B.C.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
          <p:cNvSpPr txBox="1"/>
          <p:nvPr/>
        </p:nvSpPr>
        <p:spPr>
          <a:xfrm rot="5400000">
            <a:off x="-2665080" y="2925000"/>
            <a:ext cx="597708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Timeline </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cademy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o is credited for making the first ever school of advanced learning in western hist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ademy included a curriculum with subjects such as astronomy, mathematics, political theory, philosophy, and biolog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 of the academy was to influence the minds of the younger generations and restore decent government into the cities of Greec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perated until 529 CE when it was shut down by Justinian the 1</a:t>
            </a:r>
            <a:r>
              <a:rPr b="0" lang="en-US" sz="2000" spc="-1" strike="noStrike" baseline="30000">
                <a:solidFill>
                  <a:srgbClr val="000000"/>
                </a:solidFill>
                <a:latin typeface="Arial"/>
              </a:rPr>
              <a:t>st</a:t>
            </a:r>
            <a:r>
              <a:rPr b="0" lang="en-US" sz="2000" spc="-1" strike="noStrike">
                <a:solidFill>
                  <a:srgbClr val="000000"/>
                </a:solidFill>
                <a:latin typeface="Arial"/>
              </a:rPr>
              <a:t>  of the Byzantium Empire because he saw it as a threat to the propagation of Christianity. It was also the last stronghold of paganism in the Christian worl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luence of Socrates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to was a pupil of Socrates in his youth and he tried to follow in his footste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of Socrates ideas was told though Pla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Socrates execution Plato traveled and began a life of philosoph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Plato’s theory's for things such as justices was due to the event of Socrates dea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t was not for Socrates influence on Plato much of his ideas and theory's would not have been achiev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pic>
        <p:nvPicPr>
          <p:cNvPr id="57" name="Picture 1" descr="C:\Users\Phlyx\Documents\School\Grade 11\Social 20-1\Plato\Pics\plato_bust[1].jpg"/>
          <p:cNvPicPr/>
          <p:nvPr/>
        </p:nvPicPr>
        <p:blipFill>
          <a:blip r:embed="rId1"/>
          <a:stretch/>
        </p:blipFill>
        <p:spPr>
          <a:xfrm>
            <a:off x="6062760" y="2752560"/>
            <a:ext cx="3081240" cy="410544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luence of Greece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time of Plato there was much war going on in the world of Greece: like the Peloponnesian War fought between Athens and Sparta between 431BCE and 404B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of his theory's behind human thought and the conscious mind could have been sparked from his experiences in the milita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irations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o had many influences some of them include: Socrates, Homer, Hesiod, Aristophanes, Aesop, Protagoras, Parmenides, Pythagoras , Heraclitus and Orphis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Plato’s interests in life were art, literature, epistemology, justice, virtue, politics, education, family and militaris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99"/>
            </a:gs>
            <a:gs pos="100000">
              <a:srgbClr val="ffffff"/>
            </a:gs>
          </a:gsLst>
          <a:lin ang="8100000"/>
        </a:gradFill>
      </p:bgPr>
    </p:bg>
    <p:spTree>
      <p:nvGrpSpPr>
        <p:cNvPr id="1" name=""/>
        <p:cNvGrpSpPr/>
        <p:nvPr/>
      </p:nvGrpSpPr>
      <p:grpSpPr>
        <a:xfrm>
          <a:off x="0" y="0"/>
          <a:ext cx="0" cy="0"/>
          <a:chOff x="0" y="0"/>
          <a:chExt cx="0" cy="0"/>
        </a:xfrm>
      </p:grpSpPr>
      <p:pic>
        <p:nvPicPr>
          <p:cNvPr id="62" name="Picture 2" descr="http://upload.wikimedia.org/wikipedia/commons/5/58/POxy3679_Parts_Plato_Republic.jpg"/>
          <p:cNvPicPr/>
          <p:nvPr/>
        </p:nvPicPr>
        <p:blipFill>
          <a:blip r:embed="rId1"/>
          <a:stretch/>
        </p:blipFill>
        <p:spPr>
          <a:xfrm>
            <a:off x="6156360" y="1557360"/>
            <a:ext cx="2793960" cy="3095640"/>
          </a:xfrm>
          <a:prstGeom prst="rect">
            <a:avLst/>
          </a:prstGeom>
          <a:ln w="0">
            <a:noFill/>
          </a:ln>
        </p:spPr>
      </p:pic>
      <p:sp>
        <p:nvSpPr>
          <p:cNvPr id="63" name="PlaceHolder 1"/>
          <p:cNvSpPr>
            <a:spLocks noGrp="1"/>
          </p:cNvSpPr>
          <p:nvPr>
            <p:ph type="title"/>
          </p:nvPr>
        </p:nvSpPr>
        <p:spPr>
          <a:xfrm>
            <a:off x="0" y="-243360"/>
            <a:ext cx="58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Ideas</a:t>
            </a:r>
            <a:endParaRPr b="0" lang="en-US" sz="4400" spc="-1" strike="noStrike">
              <a:solidFill>
                <a:srgbClr val="000000"/>
              </a:solidFill>
              <a:latin typeface="Arial"/>
            </a:endParaRPr>
          </a:p>
        </p:txBody>
      </p:sp>
      <p:sp>
        <p:nvSpPr>
          <p:cNvPr id="64" name="PlaceHolder 2"/>
          <p:cNvSpPr>
            <a:spLocks noGrp="1"/>
          </p:cNvSpPr>
          <p:nvPr>
            <p:ph/>
          </p:nvPr>
        </p:nvSpPr>
        <p:spPr>
          <a:xfrm>
            <a:off x="394920" y="907560"/>
            <a:ext cx="5256360" cy="56898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o believed that men and women are equal in their capacity to understand reality and make reasonable judgments about it and they should both be granted a suitable, equal education.</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o stated that societies were formed for a purpose. No one working alone can provide them self with all of the genuine necessities of life so we gather together for the mutual achievement of our goals as we are more efficient when we work together as a community.</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o’s Theory of Forms expresses that forms (ideas) possess the most fundamental kind of reality, and the material world known to us by sensation is not the real world but only a shadow of it that we perceive to be real.</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o believed that knowledge is innate and that each soul before birth has a perfect knowledge of everything and that when we learn something it is actually just being recalled this is know as platonic epistemology</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00:12:31Z</dcterms:created>
  <dc:creator>HP Authorized Customer</dc:creator>
  <dc:description/>
  <dc:language>en-US</dc:language>
  <cp:lastModifiedBy>ripkensa</cp:lastModifiedBy>
  <dcterms:modified xsi:type="dcterms:W3CDTF">2010-01-07T22:39:13Z</dcterms:modified>
  <cp:revision>5</cp:revision>
  <dc:subject/>
  <dc:title>Plato </dc:title>
</cp:coreProperties>
</file>